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FF37-BAB5-4BB4-A110-A07641791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B31F-6D3F-4A45-85D5-FB2403BF4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E56-30E7-4AD9-B26E-BF4601B4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367-DB34-432B-BBEF-6F1DFDC5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501-E32F-4131-8A49-42DF92B4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4CB-4EC7-4BE8-A8C2-631CE03A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0C6-DDC6-4D66-8E20-8D3179A1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C5C-89AF-4A59-AB60-4AB6936F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5A3-F7CF-4925-92D8-67027355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2DD-7063-4DFF-BCC1-244B38DB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43F-FD2D-40C6-B501-34876CE9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6EA-CD13-4EFF-9963-C9D0684C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FD2-A2DF-48D5-826C-7631B79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BE7-FA35-404B-99E2-059F5E5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7901-3DB7-4982-8E48-E464B8A77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runa Parr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Bruna. Yo vivo en New York. Tengo 14 años. Estoy feliz y cansada. Amo música. Yo no tengo her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1:40Z</dcterms:modified>
  <cp:revision>101</cp:revision>
  <dc:subject/>
  <dc:title>Profile</dc:title>
</cp:coreProperties>
</file>